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chimes.wav" ContentType="audio/x-wav"/>
  <Override PartName="/ppt/media/image2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1.png" ContentType="image/png"/>
  <Override PartName="/ppt/media/image46.png" ContentType="image/png"/>
  <Override PartName="/ppt/media/image30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1.png" ContentType="image/png"/>
  <Override PartName="/ppt/media/image48.jpeg" ContentType="image/jpeg"/>
  <Override PartName="/ppt/media/image50.png" ContentType="image/png"/>
  <Override PartName="/ppt/media/image13.png" ContentType="image/png"/>
  <Override PartName="/ppt/media/image45.png" ContentType="image/png"/>
  <Override PartName="/ppt/media/image27.jpeg" ContentType="image/jpeg"/>
  <Override PartName="/ppt/media/image51.jpeg" ContentType="image/jpe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8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image" Target="../media/image51.jpe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1440" y="-44280"/>
            <a:ext cx="9139320" cy="6918120"/>
          </a:xfrm>
          <a:prstGeom prst="rect">
            <a:avLst/>
          </a:prstGeom>
          <a:ln w="0">
            <a:noFill/>
          </a:ln>
        </p:spPr>
      </p:pic>
      <p:sp>
        <p:nvSpPr>
          <p:cNvPr id="4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4"/>
          <p:cNvSpPr/>
          <p:nvPr/>
        </p:nvSpPr>
        <p:spPr>
          <a:xfrm>
            <a:off x="501840" y="765000"/>
            <a:ext cx="83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  en  in un  ün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5" descr="J@OS9_I%JWD(]WR6YHH(CMT"/>
          <p:cNvPicPr/>
          <p:nvPr/>
        </p:nvPicPr>
        <p:blipFill>
          <a:blip r:embed="rId2"/>
          <a:stretch/>
        </p:blipFill>
        <p:spPr>
          <a:xfrm>
            <a:off x="1727280" y="2333520"/>
            <a:ext cx="528300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" descr=""/>
          <p:cNvPicPr/>
          <p:nvPr/>
        </p:nvPicPr>
        <p:blipFill>
          <a:blip r:embed="rId1"/>
          <a:stretch/>
        </p:blipFill>
        <p:spPr>
          <a:xfrm>
            <a:off x="648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5638680" y="1297080"/>
            <a:ext cx="190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zhen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chen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she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4952880" y="34290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962520" y="2882880"/>
            <a:ext cx="895320" cy="609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362320" y="1284120"/>
            <a:ext cx="99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zh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ch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s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3124080" y="196848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3048120" y="32637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3048120" y="356832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4952880" y="19681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4952880" y="3263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1371600" cy="21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408480" y="12682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2590920" cy="2239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1066680" cy="84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553080" y="3962520"/>
            <a:ext cx="1067040" cy="747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5"/>
          <a:stretch/>
        </p:blipFill>
        <p:spPr>
          <a:xfrm>
            <a:off x="2719440" y="1509840"/>
            <a:ext cx="5153040" cy="24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6"/>
          <a:stretch/>
        </p:blipFill>
        <p:spPr>
          <a:xfrm>
            <a:off x="3276720" y="3975120"/>
            <a:ext cx="1447560" cy="7970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1371600" cy="21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2679840" y="2514600"/>
            <a:ext cx="1704960" cy="22384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532320" y="126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1809720" cy="2371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851280" y="981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810040" cy="24001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1981080" cy="111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2387520" y="1676520"/>
            <a:ext cx="1600200" cy="1168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4"/>
          <a:stretch/>
        </p:blipFill>
        <p:spPr>
          <a:xfrm>
            <a:off x="5207040" y="342900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5"/>
          <a:stretch/>
        </p:blipFill>
        <p:spPr>
          <a:xfrm>
            <a:off x="4902120" y="1676520"/>
            <a:ext cx="1828800" cy="1033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" descr=""/>
          <p:cNvPicPr/>
          <p:nvPr/>
        </p:nvPicPr>
        <p:blipFill>
          <a:blip r:embed="rId1"/>
          <a:stretch/>
        </p:blipFill>
        <p:spPr>
          <a:xfrm>
            <a:off x="-12600" y="-3240"/>
            <a:ext cx="9171000" cy="6797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>
            <a:off x="1981080" y="1979280"/>
            <a:ext cx="9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914400" cy="64764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259092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25909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2895480" y="36576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4419720" y="2743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44956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4495680" y="37339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181480" y="1902960"/>
            <a:ext cx="221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un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un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chu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5334120" y="2666880"/>
            <a:ext cx="2514600" cy="2254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3238560" y="117936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2971800" cy="1614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715000" cy="24289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-1440" y="31680"/>
            <a:ext cx="9148680" cy="679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662440" y="2505240"/>
            <a:ext cx="2086200" cy="2381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268360" y="18414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20051001091850645"/>
          <p:cNvPicPr/>
          <p:nvPr/>
        </p:nvPicPr>
        <p:blipFill>
          <a:blip r:embed="rId3"/>
          <a:stretch/>
        </p:blipFill>
        <p:spPr>
          <a:xfrm>
            <a:off x="1403280" y="2997360"/>
            <a:ext cx="3733920" cy="2066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同侧圆角矩形 7"/>
          <p:cNvSpPr/>
          <p:nvPr/>
        </p:nvSpPr>
        <p:spPr>
          <a:xfrm>
            <a:off x="468360" y="10382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线连接符 21"/>
          <p:cNvSpPr/>
          <p:nvPr/>
        </p:nvSpPr>
        <p:spPr>
          <a:xfrm flipV="1">
            <a:off x="511200" y="1628640"/>
            <a:ext cx="20732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1676520" cy="1155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019920" y="350532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4"/>
          <a:stretch/>
        </p:blipFill>
        <p:spPr>
          <a:xfrm>
            <a:off x="1994040" y="1739880"/>
            <a:ext cx="1523880" cy="1130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5"/>
          <a:stretch/>
        </p:blipFill>
        <p:spPr>
          <a:xfrm>
            <a:off x="5041800" y="1739880"/>
            <a:ext cx="1752840" cy="1027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8569080" cy="1854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"/>
          <p:cNvSpPr/>
          <p:nvPr/>
        </p:nvSpPr>
        <p:spPr>
          <a:xfrm>
            <a:off x="2935440" y="11955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106960" y="2670840"/>
            <a:ext cx="205740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504d"/>
                </a:solidFill>
                <a:latin typeface="Calibri"/>
              </a:rPr>
              <a:t>yu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1042920" y="2463840"/>
            <a:ext cx="2063880" cy="1849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12" descr=""/>
          <p:cNvPicPr/>
          <p:nvPr/>
        </p:nvPicPr>
        <p:blipFill>
          <a:blip r:embed="rId1"/>
          <a:stretch/>
        </p:blipFill>
        <p:spPr>
          <a:xfrm>
            <a:off x="887400" y="725400"/>
            <a:ext cx="7737480" cy="5264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395280" y="2013120"/>
            <a:ext cx="82296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j                    j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q  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ü</a:t>
            </a: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       q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Calibri"/>
              </a:rPr>
              <a:t>x                   x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5400" spc="-1" strike="noStrike">
                <a:solidFill>
                  <a:srgbClr val="cc3300"/>
                </a:solidFill>
                <a:latin typeface="宋体"/>
              </a:rPr>
              <a:t>ɑ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3419640" y="14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5003640" y="14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2916360" y="285444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 flipV="1">
            <a:off x="2916360" y="3860640"/>
            <a:ext cx="33012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2916360" y="4005360"/>
            <a:ext cx="2156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14"/>
          <p:cNvSpPr/>
          <p:nvPr/>
        </p:nvSpPr>
        <p:spPr>
          <a:xfrm>
            <a:off x="325908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4772160" y="292536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772160" y="414972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730080" y="54957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小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ü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遇见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j q x 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，去掉两点还读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ü</a:t>
            </a:r>
            <a:r>
              <a:rPr b="0" lang="zh-CN" sz="4400" spc="-1" strike="noStrike">
                <a:solidFill>
                  <a:srgbClr val="ff33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同侧圆角矩形 14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468360" y="148572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"/>
          <p:cNvPicPr/>
          <p:nvPr/>
        </p:nvPicPr>
        <p:blipFill>
          <a:blip r:embed="rId1"/>
          <a:stretch/>
        </p:blipFill>
        <p:spPr>
          <a:xfrm>
            <a:off x="-12600" y="-3240"/>
            <a:ext cx="9171000" cy="679788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13"/>
          <p:cNvSpPr/>
          <p:nvPr/>
        </p:nvSpPr>
        <p:spPr>
          <a:xfrm>
            <a:off x="3402000" y="223920"/>
            <a:ext cx="234000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都会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1808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 1" descr="41ULZ@H74}BJL0M0VUH_H)F"/>
          <p:cNvPicPr/>
          <p:nvPr/>
        </p:nvPicPr>
        <p:blipFill>
          <a:blip r:embed="rId2"/>
          <a:stretch/>
        </p:blipFill>
        <p:spPr>
          <a:xfrm>
            <a:off x="-12600" y="828720"/>
            <a:ext cx="9171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1" descr=""/>
          <p:cNvPicPr/>
          <p:nvPr/>
        </p:nvPicPr>
        <p:blipFill>
          <a:blip r:embed="rId1"/>
          <a:stretch/>
        </p:blipFill>
        <p:spPr>
          <a:xfrm>
            <a:off x="-12600" y="-3240"/>
            <a:ext cx="9171000" cy="6797880"/>
          </a:xfrm>
          <a:prstGeom prst="rect">
            <a:avLst/>
          </a:prstGeom>
          <a:ln w="0">
            <a:noFill/>
          </a:ln>
        </p:spPr>
      </p:pic>
      <p:sp>
        <p:nvSpPr>
          <p:cNvPr id="238" name="同侧圆角矩形 13"/>
          <p:cNvSpPr/>
          <p:nvPr/>
        </p:nvSpPr>
        <p:spPr>
          <a:xfrm>
            <a:off x="3402000" y="136440"/>
            <a:ext cx="234000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一起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68360" y="11808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图片 1" descr="4OM2EB$`51}RPFLVSE7CVHJ"/>
          <p:cNvPicPr/>
          <p:nvPr/>
        </p:nvPicPr>
        <p:blipFill>
          <a:blip r:embed="rId2"/>
          <a:stretch/>
        </p:blipFill>
        <p:spPr>
          <a:xfrm>
            <a:off x="-12600" y="741240"/>
            <a:ext cx="917100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sp>
        <p:nvSpPr>
          <p:cNvPr id="242" name="椭圆 28"/>
          <p:cNvSpPr/>
          <p:nvPr/>
        </p:nvSpPr>
        <p:spPr>
          <a:xfrm>
            <a:off x="6384960" y="4081320"/>
            <a:ext cx="1147680" cy="8193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24"/>
          <p:cNvSpPr/>
          <p:nvPr/>
        </p:nvSpPr>
        <p:spPr>
          <a:xfrm>
            <a:off x="4991040" y="5356080"/>
            <a:ext cx="1146240" cy="8193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23"/>
          <p:cNvSpPr/>
          <p:nvPr/>
        </p:nvSpPr>
        <p:spPr>
          <a:xfrm>
            <a:off x="4143240" y="3908520"/>
            <a:ext cx="1148040" cy="8190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22"/>
          <p:cNvSpPr/>
          <p:nvPr/>
        </p:nvSpPr>
        <p:spPr>
          <a:xfrm>
            <a:off x="1994040" y="4613400"/>
            <a:ext cx="1145880" cy="8190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13"/>
          <p:cNvSpPr/>
          <p:nvPr/>
        </p:nvSpPr>
        <p:spPr>
          <a:xfrm>
            <a:off x="3344760" y="5167440"/>
            <a:ext cx="1148040" cy="8190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图片 15" descr=""/>
          <p:cNvPicPr/>
          <p:nvPr/>
        </p:nvPicPr>
        <p:blipFill>
          <a:blip r:embed="rId2"/>
          <a:stretch/>
        </p:blipFill>
        <p:spPr>
          <a:xfrm>
            <a:off x="284328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6" descr=""/>
          <p:cNvPicPr/>
          <p:nvPr/>
        </p:nvPicPr>
        <p:blipFill>
          <a:blip r:embed="rId3"/>
          <a:stretch/>
        </p:blipFill>
        <p:spPr>
          <a:xfrm>
            <a:off x="443700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7" descr=""/>
          <p:cNvPicPr/>
          <p:nvPr/>
        </p:nvPicPr>
        <p:blipFill>
          <a:blip r:embed="rId4"/>
          <a:stretch/>
        </p:blipFill>
        <p:spPr>
          <a:xfrm>
            <a:off x="614052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18" descr=""/>
          <p:cNvPicPr/>
          <p:nvPr/>
        </p:nvPicPr>
        <p:blipFill>
          <a:blip r:embed="rId5"/>
          <a:stretch/>
        </p:blipFill>
        <p:spPr>
          <a:xfrm>
            <a:off x="771984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2" descr=""/>
          <p:cNvPicPr/>
          <p:nvPr/>
        </p:nvPicPr>
        <p:blipFill>
          <a:blip r:embed="rId6"/>
          <a:stretch/>
        </p:blipFill>
        <p:spPr>
          <a:xfrm>
            <a:off x="1201680" y="2360520"/>
            <a:ext cx="1301760" cy="1278000"/>
          </a:xfrm>
          <a:prstGeom prst="rect">
            <a:avLst/>
          </a:prstGeom>
          <a:ln w="0">
            <a:noFill/>
          </a:ln>
        </p:spPr>
      </p:pic>
      <p:sp>
        <p:nvSpPr>
          <p:cNvPr id="252" name="圆角矩形 1"/>
          <p:cNvSpPr/>
          <p:nvPr/>
        </p:nvSpPr>
        <p:spPr>
          <a:xfrm>
            <a:off x="2268360" y="955800"/>
            <a:ext cx="4853160" cy="64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2503440" y="9590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6c0a"/>
                </a:solidFill>
                <a:latin typeface="Calibri"/>
              </a:rPr>
              <a:t>仔细看一看，连一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1535040" y="2676960"/>
            <a:ext cx="6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139920" y="29228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48006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6545160" y="29959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8101080" y="29959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Calibri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28960" y="46407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246560" y="4056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alibri"/>
              </a:rPr>
              <a:t>cǎ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6464160" y="40705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c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5148360" y="54374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1859c"/>
                </a:solidFill>
                <a:latin typeface="Calibri"/>
              </a:rPr>
              <a:t>ji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同侧圆角矩形 25"/>
          <p:cNvSpPr/>
          <p:nvPr/>
        </p:nvSpPr>
        <p:spPr>
          <a:xfrm>
            <a:off x="3952800" y="2350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线连接符 21"/>
          <p:cNvSpPr/>
          <p:nvPr/>
        </p:nvSpPr>
        <p:spPr>
          <a:xfrm flipV="1">
            <a:off x="3952800" y="8506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4"/>
          <p:cNvSpPr/>
          <p:nvPr/>
        </p:nvSpPr>
        <p:spPr>
          <a:xfrm>
            <a:off x="3492360" y="525456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é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-1440" y="31680"/>
            <a:ext cx="9148680" cy="679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972400" cy="2400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-1440" y="3240"/>
            <a:ext cx="9148680" cy="685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038480" y="3483000"/>
            <a:ext cx="190512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6353280" y="1857240"/>
            <a:ext cx="198108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6353280" y="3483000"/>
            <a:ext cx="1904760" cy="101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1592280" y="1847880"/>
            <a:ext cx="1752480" cy="134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6"/>
          <a:stretch/>
        </p:blipFill>
        <p:spPr>
          <a:xfrm>
            <a:off x="3900600" y="1895400"/>
            <a:ext cx="1828800" cy="1249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7"/>
          <a:stretch/>
        </p:blipFill>
        <p:spPr>
          <a:xfrm>
            <a:off x="1325520" y="3429000"/>
            <a:ext cx="2286000" cy="1154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-1440" y="31680"/>
            <a:ext cx="9148680" cy="6794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"/>
          <p:cNvPicPr/>
          <p:nvPr/>
        </p:nvPicPr>
        <p:blipFill>
          <a:blip r:embed="rId2"/>
          <a:stretch/>
        </p:blipFill>
        <p:spPr>
          <a:xfrm>
            <a:off x="250920" y="1284120"/>
            <a:ext cx="8501040" cy="520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779560" y="1752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"/>
          <p:cNvSpPr/>
          <p:nvPr/>
        </p:nvSpPr>
        <p:spPr>
          <a:xfrm>
            <a:off x="3200400" y="2286000"/>
            <a:ext cx="108432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218040" y="270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3228840" y="2805120"/>
            <a:ext cx="114804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140360" y="2409840"/>
            <a:ext cx="1056960" cy="733320"/>
          </a:xfrm>
          <a:prstGeom prst="rect">
            <a:avLst/>
          </a:prstGeom>
          <a:ln w="0">
            <a:noFill/>
          </a:ln>
        </p:spPr>
      </p:pic>
      <p:pic>
        <p:nvPicPr>
          <p:cNvPr id="74" name="矩形 1" descr=""/>
          <p:cNvPicPr/>
          <p:nvPr/>
        </p:nvPicPr>
        <p:blipFill>
          <a:blip r:embed="rId4"/>
          <a:stretch/>
        </p:blipFill>
        <p:spPr>
          <a:xfrm>
            <a:off x="3219480" y="946080"/>
            <a:ext cx="2338200" cy="924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779560" y="24148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779560" y="2859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1946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3240" y="-4680"/>
            <a:ext cx="9171000" cy="6797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2127240" y="1352520"/>
            <a:ext cx="885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k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3"/>
          <p:cNvSpPr/>
          <p:nvPr/>
        </p:nvSpPr>
        <p:spPr>
          <a:xfrm>
            <a:off x="2660760" y="1959120"/>
            <a:ext cx="1082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2660760" y="3558960"/>
            <a:ext cx="1082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660760" y="333216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489560" y="2938320"/>
            <a:ext cx="1365120" cy="733680"/>
          </a:xfrm>
          <a:prstGeom prst="rect">
            <a:avLst/>
          </a:prstGeom>
          <a:ln w="0">
            <a:noFill/>
          </a:ln>
        </p:spPr>
      </p:pic>
      <p:sp>
        <p:nvSpPr>
          <p:cNvPr id="87" name="Oval 7"/>
          <p:cNvSpPr/>
          <p:nvPr/>
        </p:nvSpPr>
        <p:spPr>
          <a:xfrm>
            <a:off x="3346560" y="2860560"/>
            <a:ext cx="10825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013440" y="684720"/>
            <a:ext cx="187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Dotum"/>
                <a:ea typeface="Dotum"/>
              </a:rPr>
              <a:t>g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uan   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kuan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hua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5543640" y="2174400"/>
            <a:ext cx="689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5619600" y="339552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5543640" y="3699000"/>
            <a:ext cx="590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同侧圆角矩形 13"/>
          <p:cNvSpPr/>
          <p:nvPr/>
        </p:nvSpPr>
        <p:spPr>
          <a:xfrm>
            <a:off x="468360" y="4986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1808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-12600" y="-3240"/>
            <a:ext cx="9171000" cy="679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127240" y="1352520"/>
            <a:ext cx="885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j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q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660760" y="1959120"/>
            <a:ext cx="1082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4"/>
          <p:cNvSpPr/>
          <p:nvPr/>
        </p:nvSpPr>
        <p:spPr>
          <a:xfrm flipV="1">
            <a:off x="2660760" y="3558960"/>
            <a:ext cx="1082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660760" y="333216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489560" y="2938320"/>
            <a:ext cx="1365120" cy="733680"/>
          </a:xfrm>
          <a:prstGeom prst="rect">
            <a:avLst/>
          </a:prstGeom>
          <a:ln w="0">
            <a:noFill/>
          </a:ln>
        </p:spPr>
      </p:pic>
      <p:sp>
        <p:nvSpPr>
          <p:cNvPr id="100" name="Oval 7"/>
          <p:cNvSpPr/>
          <p:nvPr/>
        </p:nvSpPr>
        <p:spPr>
          <a:xfrm>
            <a:off x="3346560" y="2860560"/>
            <a:ext cx="10825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013440" y="1415880"/>
            <a:ext cx="187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Dotum"/>
                <a:ea typeface="Dotum"/>
              </a:rPr>
              <a:t>j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uan  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uan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ua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9"/>
          <p:cNvSpPr/>
          <p:nvPr/>
        </p:nvSpPr>
        <p:spPr>
          <a:xfrm flipV="1">
            <a:off x="5543640" y="2174400"/>
            <a:ext cx="689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5619600" y="3395520"/>
            <a:ext cx="4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5543640" y="3699000"/>
            <a:ext cx="590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13"/>
          <p:cNvSpPr/>
          <p:nvPr/>
        </p:nvSpPr>
        <p:spPr>
          <a:xfrm>
            <a:off x="468360" y="4986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1808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-12600" y="-3240"/>
            <a:ext cx="9171000" cy="679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1762200" cy="22003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6352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qi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 mǔ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前      鼻  韵   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2362320" y="2438280"/>
            <a:ext cx="1927080" cy="2133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-12600" y="-3240"/>
            <a:ext cx="9171000" cy="679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371600" cy="75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1219320" cy="71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6553080" y="4038480"/>
            <a:ext cx="1371600" cy="70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5"/>
          <a:stretch/>
        </p:blipFill>
        <p:spPr>
          <a:xfrm>
            <a:off x="1663560" y="1460520"/>
            <a:ext cx="553428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6"/>
          <a:stretch/>
        </p:blipFill>
        <p:spPr>
          <a:xfrm>
            <a:off x="5016600" y="4127400"/>
            <a:ext cx="1218960" cy="709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同侧圆角矩形 7"/>
          <p:cNvSpPr/>
          <p:nvPr/>
        </p:nvSpPr>
        <p:spPr>
          <a:xfrm>
            <a:off x="15840" y="833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15840" y="1409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0:00Z</dcterms:created>
  <dc:creator/>
  <dc:description/>
  <cp:keywords/>
  <dc:language>en-US</dc:language>
  <cp:lastModifiedBy>User</cp:lastModifiedBy>
  <dcterms:modified xsi:type="dcterms:W3CDTF">2016-10-15T12:52:25Z</dcterms:modified>
  <cp:revision>6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